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EEDD-E96D-4D83-B6EE-810968B0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4583-CB2A-40CC-A756-F3B4633E8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FE60-3D33-4CF0-B8B5-0235AF9A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991E-F6D6-49F3-BB4C-CDAF9E66E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3C836-D1C0-4E66-8A82-FA2CB8633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8100-958A-4A2B-8494-B73B9030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698F7-7CD1-4E15-A30C-0C7FABA5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C7F8-F627-4CCC-81B5-988DDF8D8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0CDB7-4C44-446F-9349-A696AF879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4172-ECB7-41C3-AC43-9EC341D7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EDD6-0708-4266-9489-9B519106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004-4EDD-4DC6-B4DF-745BBE5B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F3C4-EA39-4FC4-B944-6A0C75DA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19C8-4695-4144-A0D6-4B7E7F1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41C8-55BD-43D4-8D48-8DABFF5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F3DE0-6594-4672-8BF1-9353A2555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65BF6-39A7-4495-A863-85DB7987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DC094-398C-4F12-ACE1-487376DF2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172CB-67DE-4F26-9366-8E86F0725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10073-8B1C-4B21-AE60-370D8FD3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87641-784C-4EC5-ACF1-4BE7FF17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5571-260A-4CD5-906B-34826001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E3DD-3017-44AF-A483-C3C99CC2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B3589-A226-4379-AA8C-898EFA04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EE1F-7405-459D-BDE3-182A20B5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A784A-B70C-4ABD-AB05-6731D4677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0F207-3B69-470F-84C3-A9A385C3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BC554-A0B0-451B-841B-AB27722F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B3607-700E-4516-B11E-A688AFBE0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EF08E-F4B0-44E3-BA77-76F64229C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CFCB4-3AB2-4F51-B329-2127AF71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0D6F9-6CAC-41B6-8C52-40C61FD7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145E3-C190-4144-ADFB-ED7E33BEC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E44A-217A-4B05-B09F-8DA9757D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84157-43FE-4AED-A9E1-C5FED36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E3DD-A090-4DDF-B61B-36FBCA8C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DA6E0-480C-4758-B67E-3EFA61B7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5BCC2-C97F-4DD2-A414-0D311A98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E1043-FF54-4283-A5CB-32CB5966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A0BB8-3B2D-409D-A493-9AB11342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4AE0F-A395-4BAD-BB6E-B1B6FFA9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0135C-A07D-4EAA-96D9-7042B0524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E21AE-3D7B-4914-8377-63B929884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523B50-6030-4D23-B5D7-81149F76D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E219-32D2-45A7-A9FC-08F14D120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7A70A-BFF1-4345-8D30-BBC2F2D6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C3464-8BD5-444B-91CE-2C16B3A9F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6C9A-C368-4FE6-A05B-33822E12F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4F5F0-EDD6-401B-9A76-BD201FA9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F6C3-CDAE-4999-A531-F047583E1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E715D-C996-43DF-900D-DC795F379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DE414-C47F-49BE-B1F7-5918A976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C9948-AC74-425D-B43C-C77EA876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E9676-09B1-465B-82FC-181C34A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96AB7A-7DEC-4D1D-BF93-5F4AC429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CFE-B066-40D0-8836-16F6AFC6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F1262-637F-4F5D-BC25-AF8EAC4A2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820-E5B1-42D6-8EDA-6ACB159F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9A13-F034-4DEF-A099-5D6413F88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122-69A0-4B10-919C-BB863A2A8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C799-626B-49E8-B618-F0604C189826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4179-6084-42F6-8612-FCFDEE7B03D9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333A-AA32-4880-A10E-8B633DB8269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4070-244B-4800-A129-A837CF4E4D8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5E68-4312-4298-B29D-B2E6DFF1311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uesday, Feb. 9, 2010    6 - 8 pm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3"/>
          <p:cNvSpPr/>
          <p:nvPr/>
        </p:nvSpPr>
        <p:spPr>
          <a:xfrm>
            <a:off x="3124080" y="4876920"/>
            <a:ext cx="556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ed &amp; Led by Professional Learn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il Nalven and Ayala Rybak, Lea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n Block, Education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an Ticker, LOMED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es this tell us about the situations that have the greatest impact on our lives and shape who we are as Jew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ould the results be different? What might be the impac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 children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ir parent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 congreg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selve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arners will be on a journey of tikkun olam (mending the world) guided by a Jewish moral compa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ill develop the knowledge, the sense of belonging, the values/beliefs and skills and habits to contribute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mending the worl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mentary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tradition serves as a guide to understanding issues of social justice and social action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hese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working on these issues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ho achieve this priority goal engage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world repair) through learning value concepts and their connection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itzv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studying Jewish sources, acting and reflect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06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"/>
          <p:cNvPicPr/>
          <p:nvPr/>
        </p:nvPicPr>
        <p:blipFill>
          <a:blip r:embed="rId2"/>
          <a:stretch/>
        </p:blipFill>
        <p:spPr>
          <a:xfrm>
            <a:off x="457200" y="2741760"/>
            <a:ext cx="72388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pic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ead of Affliction – Ha Lachma Any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Tube Vide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ful Learning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stands out for you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itle 3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earner  outcomes measurement  for effective  educational desig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25" name="Picture Placeholder 6" descr="Stefanie photo 1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y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h 16 with Haz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ril 13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ing with Tikkun Olam in mi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on Ques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Stu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re Convers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ority Goal – Tikkun Ol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morable Experien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le Person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gnitive Learning: Know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ffective Learning: Believing and Belong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uthentic Living: Do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understand the Priority Goal and will be able to explain it to others (parents and children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reflect on their own memorable Jewish experiences and see them as a model of what they could provide for their own learn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be inspired by the Priority Go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identify one lesson where they can incorporate the concept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to a learning experien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develop learner outcomes that include affective realm (KDBB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Please share your favorite thing to teach and why it is special to you.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morable Jewish Learning Experi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ere: Identify the Context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at: Describe the Experience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Why: Explain why it was memorable to you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2:03:18Z</dcterms:created>
  <dc:creator>tickers</dc:creator>
  <dc:description/>
  <dc:language>en-US</dc:language>
  <cp:lastModifiedBy>tickers</cp:lastModifiedBy>
  <dcterms:modified xsi:type="dcterms:W3CDTF">2010-03-12T00:31:24Z</dcterms:modified>
  <cp:revision>9</cp:revision>
  <dc:subject/>
  <dc:title>KTI Faculty LOMED Professional Learning </dc:title>
</cp:coreProperties>
</file>